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4403388" cy="21607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3F2-B332-419E-90BE-C65798DF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1296036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12490200"/>
            <a:ext cx="1296036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B40-B78A-4C3F-BD0D-1B897129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1249020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61280" y="1249020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931-80FB-4A9F-BC4D-D4AB13A8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2640" y="504144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4560" y="504144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1249020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2640" y="1249020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84560" y="1249020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3D4-C482-4500-A04E-676CFBFA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0360" y="5041440"/>
            <a:ext cx="12960360" cy="142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1296036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0360" y="865080"/>
            <a:ext cx="12960360" cy="166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0360" y="1249020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5041440"/>
            <a:ext cx="12960360" cy="142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59A-44DE-4EE5-818C-81CCB9E2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61280" y="1249020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0360" y="12490200"/>
            <a:ext cx="1296036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1296036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0360" y="12490200"/>
            <a:ext cx="1296036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0360" y="1249020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7361280" y="1249020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2640" y="504144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4560" y="504144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0360" y="1249020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02640" y="1249020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9484560" y="12490200"/>
            <a:ext cx="417312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1296036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07F-3691-4124-8184-3F5E7FA9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953-62F1-4F9D-AD57-FB0AF191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AF9-07CB-478A-9C9E-8F35C24C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865080"/>
            <a:ext cx="12960360" cy="166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38B-F167-4F1E-8283-795BCA0C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1249020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021-0963-4C0F-9AD7-83E60D0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61280" y="1249020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E77-DEEE-4483-BEBF-600FC5FE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61280" y="5041440"/>
            <a:ext cx="632448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12490200"/>
            <a:ext cx="12960360" cy="680220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ED4-843F-445D-9F58-1DF15896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5041440"/>
            <a:ext cx="1296036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marL="676440" indent="-6764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465200" indent="-5634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254320" indent="-4510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3156120" indent="-4510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4057560" indent="-45072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4057560" indent="-45072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4057560" indent="-45072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360" y="20026080"/>
            <a:ext cx="3359160" cy="11509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20840" y="20026080"/>
            <a:ext cx="4559400" cy="11509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21560" y="20026080"/>
            <a:ext cx="3359160" cy="11509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725D14D-6827-4A2B-8A9A-8E87556DA01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865080"/>
            <a:ext cx="12960360" cy="360216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8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5041440"/>
            <a:ext cx="1296036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marL="676440" indent="-67644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1" marL="1465200" indent="-56340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2" marL="2254320" indent="-4510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3" marL="3156120" indent="-45108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4" marL="4057560" indent="-45072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5" marL="4057560" indent="-45072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lvl="6" marL="4057560" indent="-450720">
              <a:spcBef>
                <a:spcPts val="1576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9"/>
          <p:cNvSpPr/>
          <p:nvPr/>
        </p:nvSpPr>
        <p:spPr>
          <a:xfrm>
            <a:off x="7273800" y="2313000"/>
            <a:ext cx="7128000" cy="18869040"/>
          </a:xfrm>
          <a:prstGeom prst="rect">
            <a:avLst/>
          </a:prstGeom>
          <a:gradFill rotWithShape="0">
            <a:gsLst>
              <a:gs pos="0">
                <a:srgbClr val="fdffef"/>
              </a:gs>
              <a:gs pos="100000">
                <a:srgbClr val="e9fd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040" bIns="23040" anchor="ctr">
            <a:noAutofit/>
          </a:bodyPr>
          <a:p>
            <a:pPr algn="ctr"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0"/>
            <a:ext cx="14401800" cy="231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29960" y="460440"/>
            <a:ext cx="13247640" cy="3335400"/>
            <a:chOff x="129960" y="460440"/>
            <a:chExt cx="13247640" cy="3335400"/>
          </a:xfrm>
        </p:grpSpPr>
        <p:grpSp>
          <p:nvGrpSpPr>
            <p:cNvPr id="82" name="Group 25"/>
            <p:cNvGrpSpPr/>
            <p:nvPr/>
          </p:nvGrpSpPr>
          <p:grpSpPr>
            <a:xfrm>
              <a:off x="129960" y="460440"/>
              <a:ext cx="11675880" cy="3039840"/>
              <a:chOff x="129960" y="460440"/>
              <a:chExt cx="11675880" cy="3039840"/>
            </a:xfrm>
          </p:grpSpPr>
          <p:sp>
            <p:nvSpPr>
              <p:cNvPr id="83" name="Freeform 26"/>
              <p:cNvSpPr/>
              <p:nvPr/>
            </p:nvSpPr>
            <p:spPr>
              <a:xfrm flipH="1">
                <a:off x="129600" y="461520"/>
                <a:ext cx="11675880" cy="3037320"/>
              </a:xfrm>
              <a:custGeom>
                <a:avLst/>
                <a:gdLst/>
                <a:ahLst/>
                <a:rect l="l" t="t" r="r" b="b"/>
                <a:pathLst>
                  <a:path w="1452" h="764">
                    <a:moveTo>
                      <a:pt x="1452" y="585"/>
                    </a:moveTo>
                    <a:cubicBezTo>
                      <a:pt x="505" y="90"/>
                      <a:pt x="23" y="710"/>
                      <a:pt x="0" y="764"/>
                    </a:cubicBezTo>
                    <a:cubicBezTo>
                      <a:pt x="0" y="764"/>
                      <a:pt x="388" y="0"/>
                      <a:pt x="1452" y="502"/>
                    </a:cubicBez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27"/>
              <p:cNvSpPr/>
              <p:nvPr/>
            </p:nvSpPr>
            <p:spPr>
              <a:xfrm flipH="1">
                <a:off x="129600" y="460440"/>
                <a:ext cx="11675880" cy="3039840"/>
              </a:xfrm>
              <a:custGeom>
                <a:avLst/>
                <a:gdLst/>
                <a:ahLst/>
                <a:rect l="l" t="t" r="r" b="b"/>
                <a:pathLst>
                  <a:path w="1452" h="764">
                    <a:moveTo>
                      <a:pt x="1452" y="585"/>
                    </a:moveTo>
                    <a:cubicBezTo>
                      <a:pt x="505" y="90"/>
                      <a:pt x="23" y="710"/>
                      <a:pt x="0" y="764"/>
                    </a:cubicBezTo>
                    <a:cubicBezTo>
                      <a:pt x="0" y="764"/>
                      <a:pt x="388" y="0"/>
                      <a:pt x="1452" y="502"/>
                    </a:cubicBezTo>
                  </a:path>
                </a:pathLst>
              </a:custGeom>
              <a:solidFill>
                <a:srgbClr val="990000">
                  <a:alpha val="3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Freeform 28"/>
            <p:cNvSpPr/>
            <p:nvPr/>
          </p:nvSpPr>
          <p:spPr>
            <a:xfrm flipH="1">
              <a:off x="136080" y="621720"/>
              <a:ext cx="13241520" cy="3174120"/>
            </a:xfrm>
            <a:custGeom>
              <a:avLst/>
              <a:gdLst/>
              <a:ahLst/>
              <a:rect l="l" t="t" r="r" b="b"/>
              <a:pathLst>
                <a:path w="1647" h="798">
                  <a:moveTo>
                    <a:pt x="1647" y="611"/>
                  </a:moveTo>
                  <a:cubicBezTo>
                    <a:pt x="635" y="94"/>
                    <a:pt x="24" y="741"/>
                    <a:pt x="0" y="798"/>
                  </a:cubicBezTo>
                  <a:cubicBezTo>
                    <a:pt x="0" y="798"/>
                    <a:pt x="511" y="0"/>
                    <a:pt x="1647" y="524"/>
                  </a:cubicBezTo>
                </a:path>
              </a:pathLst>
            </a:custGeom>
            <a:solidFill>
              <a:srgbClr val="ffd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23"/>
          <p:cNvSpPr/>
          <p:nvPr/>
        </p:nvSpPr>
        <p:spPr>
          <a:xfrm>
            <a:off x="7764480" y="2870280"/>
            <a:ext cx="6303960" cy="11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040" bIns="23040" anchor="t">
            <a:spAutoFit/>
          </a:bodyPr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Are you Retired or Semi-Retired and looking for something to keep you acti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Whether you want 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The Challenge of Learning New Skills or Ideas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Exercises for your Brain or your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or just Social Activity playing Cards , Mah Jong or Triv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ff0000"/>
                </a:solidFill>
                <a:latin typeface="Calibri"/>
              </a:rPr>
              <a:t>xxxxxxxxx</a:t>
            </a: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 U3A has something to suit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We have over </a:t>
            </a:r>
            <a:r>
              <a:rPr b="1" lang="en-AU" sz="3000" spc="-1" strike="noStrike">
                <a:solidFill>
                  <a:srgbClr val="ff0000"/>
                </a:solidFill>
                <a:latin typeface="Calibri"/>
              </a:rPr>
              <a:t>NNN</a:t>
            </a: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 active members in the local area attending more than </a:t>
            </a:r>
            <a:r>
              <a:rPr b="1" lang="en-AU" sz="3000" spc="-1" strike="noStrike">
                <a:solidFill>
                  <a:srgbClr val="ff0000"/>
                </a:solidFill>
                <a:latin typeface="Calibri"/>
              </a:rPr>
              <a:t>NN</a:t>
            </a: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 courses in a wide range of subjec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r 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rite to us at the P.O. Box below or go to our web site for up to date  information about our courses , activities, news and how to contact u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6154560" y="13390560"/>
            <a:ext cx="8056800" cy="3781440"/>
            <a:chOff x="6154560" y="13390560"/>
            <a:chExt cx="8056800" cy="3781440"/>
          </a:xfrm>
        </p:grpSpPr>
        <p:grpSp>
          <p:nvGrpSpPr>
            <p:cNvPr id="88" name="Group 25"/>
            <p:cNvGrpSpPr/>
            <p:nvPr/>
          </p:nvGrpSpPr>
          <p:grpSpPr>
            <a:xfrm>
              <a:off x="7110360" y="13390560"/>
              <a:ext cx="7101000" cy="3446640"/>
              <a:chOff x="7110360" y="13390560"/>
              <a:chExt cx="7101000" cy="3446640"/>
            </a:xfrm>
          </p:grpSpPr>
          <p:sp>
            <p:nvSpPr>
              <p:cNvPr id="89" name="Freeform 26"/>
              <p:cNvSpPr/>
              <p:nvPr/>
            </p:nvSpPr>
            <p:spPr>
              <a:xfrm>
                <a:off x="7110360" y="13391640"/>
                <a:ext cx="7101000" cy="3444120"/>
              </a:xfrm>
              <a:custGeom>
                <a:avLst/>
                <a:gdLst/>
                <a:ahLst/>
                <a:rect l="l" t="t" r="r" b="b"/>
                <a:pathLst>
                  <a:path w="1452" h="764">
                    <a:moveTo>
                      <a:pt x="1452" y="585"/>
                    </a:moveTo>
                    <a:cubicBezTo>
                      <a:pt x="505" y="90"/>
                      <a:pt x="23" y="710"/>
                      <a:pt x="0" y="764"/>
                    </a:cubicBezTo>
                    <a:cubicBezTo>
                      <a:pt x="0" y="764"/>
                      <a:pt x="388" y="0"/>
                      <a:pt x="1452" y="502"/>
                    </a:cubicBez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27"/>
              <p:cNvSpPr/>
              <p:nvPr/>
            </p:nvSpPr>
            <p:spPr>
              <a:xfrm>
                <a:off x="7110360" y="13390560"/>
                <a:ext cx="7101000" cy="3446640"/>
              </a:xfrm>
              <a:custGeom>
                <a:avLst/>
                <a:gdLst/>
                <a:ahLst/>
                <a:rect l="l" t="t" r="r" b="b"/>
                <a:pathLst>
                  <a:path w="1452" h="764">
                    <a:moveTo>
                      <a:pt x="1452" y="585"/>
                    </a:moveTo>
                    <a:cubicBezTo>
                      <a:pt x="505" y="90"/>
                      <a:pt x="23" y="710"/>
                      <a:pt x="0" y="764"/>
                    </a:cubicBezTo>
                    <a:cubicBezTo>
                      <a:pt x="0" y="764"/>
                      <a:pt x="388" y="0"/>
                      <a:pt x="1452" y="502"/>
                    </a:cubicBezTo>
                  </a:path>
                </a:pathLst>
              </a:custGeom>
              <a:solidFill>
                <a:srgbClr val="990000">
                  <a:alpha val="3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Freeform 28"/>
            <p:cNvSpPr/>
            <p:nvPr/>
          </p:nvSpPr>
          <p:spPr>
            <a:xfrm>
              <a:off x="6154560" y="13573440"/>
              <a:ext cx="8053200" cy="3598560"/>
            </a:xfrm>
            <a:custGeom>
              <a:avLst/>
              <a:gdLst/>
              <a:ahLst/>
              <a:rect l="l" t="t" r="r" b="b"/>
              <a:pathLst>
                <a:path w="1647" h="798">
                  <a:moveTo>
                    <a:pt x="1647" y="611"/>
                  </a:moveTo>
                  <a:cubicBezTo>
                    <a:pt x="635" y="94"/>
                    <a:pt x="24" y="741"/>
                    <a:pt x="0" y="798"/>
                  </a:cubicBezTo>
                  <a:cubicBezTo>
                    <a:pt x="0" y="798"/>
                    <a:pt x="511" y="0"/>
                    <a:pt x="1647" y="524"/>
                  </a:cubicBezTo>
                </a:path>
              </a:pathLst>
            </a:custGeom>
            <a:solidFill>
              <a:srgbClr val="ffd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ectangle 13"/>
          <p:cNvSpPr/>
          <p:nvPr/>
        </p:nvSpPr>
        <p:spPr>
          <a:xfrm>
            <a:off x="7497720" y="16274880"/>
            <a:ext cx="6607080" cy="388800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80" rIns="46080" tIns="23040" bIns="23040" anchor="ctr">
            <a:noAutofit/>
          </a:bodyPr>
          <a:p>
            <a:pPr algn="ctr"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0" lang="en-AU" sz="3600" spc="-1" strike="noStrike">
                <a:solidFill>
                  <a:srgbClr val="a6a6a6"/>
                </a:solidFill>
                <a:latin typeface="Calibri"/>
              </a:rPr>
              <a:t>your U3A contact details and web address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165640" y="627120"/>
            <a:ext cx="1536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6560" rIns="196560" tIns="98280" bIns="9828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OGO HE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53920" y="2870280"/>
            <a:ext cx="3632400" cy="5070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336760" y="7162920"/>
            <a:ext cx="4373640" cy="302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2778120" y="12584160"/>
            <a:ext cx="3414600" cy="45878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649440" y="9931320"/>
            <a:ext cx="4508280" cy="3021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2"/>
          <p:cNvSpPr/>
          <p:nvPr/>
        </p:nvSpPr>
        <p:spPr>
          <a:xfrm>
            <a:off x="1158840" y="17172000"/>
            <a:ext cx="4810320" cy="3344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7273800" y="2313000"/>
            <a:ext cx="7128000" cy="18869040"/>
          </a:xfrm>
          <a:prstGeom prst="rect">
            <a:avLst/>
          </a:prstGeom>
          <a:gradFill rotWithShape="0">
            <a:gsLst>
              <a:gs pos="0">
                <a:srgbClr val="fdffef"/>
              </a:gs>
              <a:gs pos="100000">
                <a:srgbClr val="e9fd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040" bIns="23040" anchor="ctr">
            <a:noAutofit/>
          </a:bodyPr>
          <a:p>
            <a:pPr algn="ctr"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14401800" cy="231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24"/>
          <p:cNvGrpSpPr/>
          <p:nvPr/>
        </p:nvGrpSpPr>
        <p:grpSpPr>
          <a:xfrm>
            <a:off x="129960" y="460440"/>
            <a:ext cx="13247640" cy="3335400"/>
            <a:chOff x="129960" y="460440"/>
            <a:chExt cx="13247640" cy="3335400"/>
          </a:xfrm>
        </p:grpSpPr>
        <p:grpSp>
          <p:nvGrpSpPr>
            <p:cNvPr id="102" name="Group 25"/>
            <p:cNvGrpSpPr/>
            <p:nvPr/>
          </p:nvGrpSpPr>
          <p:grpSpPr>
            <a:xfrm>
              <a:off x="129960" y="460440"/>
              <a:ext cx="11675880" cy="3039840"/>
              <a:chOff x="129960" y="460440"/>
              <a:chExt cx="11675880" cy="3039840"/>
            </a:xfrm>
          </p:grpSpPr>
          <p:sp>
            <p:nvSpPr>
              <p:cNvPr id="103" name="Freeform 26"/>
              <p:cNvSpPr/>
              <p:nvPr/>
            </p:nvSpPr>
            <p:spPr>
              <a:xfrm flipH="1">
                <a:off x="129600" y="461520"/>
                <a:ext cx="11675880" cy="3037320"/>
              </a:xfrm>
              <a:custGeom>
                <a:avLst/>
                <a:gdLst/>
                <a:ahLst/>
                <a:rect l="l" t="t" r="r" b="b"/>
                <a:pathLst>
                  <a:path w="1452" h="764">
                    <a:moveTo>
                      <a:pt x="1452" y="585"/>
                    </a:moveTo>
                    <a:cubicBezTo>
                      <a:pt x="505" y="90"/>
                      <a:pt x="23" y="710"/>
                      <a:pt x="0" y="764"/>
                    </a:cubicBezTo>
                    <a:cubicBezTo>
                      <a:pt x="0" y="764"/>
                      <a:pt x="388" y="0"/>
                      <a:pt x="1452" y="502"/>
                    </a:cubicBez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 flipH="1">
                <a:off x="129600" y="460440"/>
                <a:ext cx="11675880" cy="3039840"/>
              </a:xfrm>
              <a:custGeom>
                <a:avLst/>
                <a:gdLst/>
                <a:ahLst/>
                <a:rect l="l" t="t" r="r" b="b"/>
                <a:pathLst>
                  <a:path w="1452" h="764">
                    <a:moveTo>
                      <a:pt x="1452" y="585"/>
                    </a:moveTo>
                    <a:cubicBezTo>
                      <a:pt x="505" y="90"/>
                      <a:pt x="23" y="710"/>
                      <a:pt x="0" y="764"/>
                    </a:cubicBezTo>
                    <a:cubicBezTo>
                      <a:pt x="0" y="764"/>
                      <a:pt x="388" y="0"/>
                      <a:pt x="1452" y="502"/>
                    </a:cubicBezTo>
                  </a:path>
                </a:pathLst>
              </a:custGeom>
              <a:solidFill>
                <a:srgbClr val="990000">
                  <a:alpha val="3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Freeform 28"/>
            <p:cNvSpPr/>
            <p:nvPr/>
          </p:nvSpPr>
          <p:spPr>
            <a:xfrm flipH="1">
              <a:off x="136080" y="621720"/>
              <a:ext cx="13241520" cy="3174120"/>
            </a:xfrm>
            <a:custGeom>
              <a:avLst/>
              <a:gdLst/>
              <a:ahLst/>
              <a:rect l="l" t="t" r="r" b="b"/>
              <a:pathLst>
                <a:path w="1647" h="798">
                  <a:moveTo>
                    <a:pt x="1647" y="611"/>
                  </a:moveTo>
                  <a:cubicBezTo>
                    <a:pt x="635" y="94"/>
                    <a:pt x="24" y="741"/>
                    <a:pt x="0" y="798"/>
                  </a:cubicBezTo>
                  <a:cubicBezTo>
                    <a:pt x="0" y="798"/>
                    <a:pt x="511" y="0"/>
                    <a:pt x="1647" y="524"/>
                  </a:cubicBezTo>
                </a:path>
              </a:pathLst>
            </a:custGeom>
            <a:solidFill>
              <a:srgbClr val="ffd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TextBox 8"/>
          <p:cNvSpPr/>
          <p:nvPr/>
        </p:nvSpPr>
        <p:spPr>
          <a:xfrm>
            <a:off x="7764480" y="2870280"/>
            <a:ext cx="6303960" cy="11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040" bIns="23040" anchor="t">
            <a:spAutoFit/>
          </a:bodyPr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Are you Retired or Semi-Retired and looking for something to keep you acti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Whether you want 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The Challenge of Learning New Skills or Ideas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Exercises for your Brain or your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or just Social Activity playing Cards , Mah Jong or Triv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ff0000"/>
                </a:solidFill>
                <a:latin typeface="Calibri"/>
              </a:rPr>
              <a:t>xxxxxxxxx</a:t>
            </a: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 U3A has something to suit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We have over </a:t>
            </a:r>
            <a:r>
              <a:rPr b="1" lang="en-AU" sz="3000" spc="-1" strike="noStrike">
                <a:solidFill>
                  <a:srgbClr val="ff0000"/>
                </a:solidFill>
                <a:latin typeface="Calibri"/>
              </a:rPr>
              <a:t>NNN</a:t>
            </a: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 active members in the local area attending more than </a:t>
            </a:r>
            <a:r>
              <a:rPr b="1" lang="en-AU" sz="3000" spc="-1" strike="noStrike">
                <a:solidFill>
                  <a:srgbClr val="ff0000"/>
                </a:solidFill>
                <a:latin typeface="Calibri"/>
              </a:rPr>
              <a:t>NN</a:t>
            </a: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 courses in a wide range of subjec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r 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rite to us at the P.O. Box below or go to our web site for up to date  information about our courses , activities, news and how to contact u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24"/>
          <p:cNvGrpSpPr/>
          <p:nvPr/>
        </p:nvGrpSpPr>
        <p:grpSpPr>
          <a:xfrm>
            <a:off x="6154560" y="13390560"/>
            <a:ext cx="8056800" cy="3781440"/>
            <a:chOff x="6154560" y="13390560"/>
            <a:chExt cx="8056800" cy="3781440"/>
          </a:xfrm>
        </p:grpSpPr>
        <p:grpSp>
          <p:nvGrpSpPr>
            <p:cNvPr id="108" name="Group 25"/>
            <p:cNvGrpSpPr/>
            <p:nvPr/>
          </p:nvGrpSpPr>
          <p:grpSpPr>
            <a:xfrm>
              <a:off x="7110360" y="13390560"/>
              <a:ext cx="7101000" cy="3446640"/>
              <a:chOff x="7110360" y="13390560"/>
              <a:chExt cx="7101000" cy="3446640"/>
            </a:xfrm>
          </p:grpSpPr>
          <p:sp>
            <p:nvSpPr>
              <p:cNvPr id="109" name="Freeform 26"/>
              <p:cNvSpPr/>
              <p:nvPr/>
            </p:nvSpPr>
            <p:spPr>
              <a:xfrm>
                <a:off x="7110360" y="13391640"/>
                <a:ext cx="7101000" cy="3444120"/>
              </a:xfrm>
              <a:custGeom>
                <a:avLst/>
                <a:gdLst/>
                <a:ahLst/>
                <a:rect l="l" t="t" r="r" b="b"/>
                <a:pathLst>
                  <a:path w="1452" h="764">
                    <a:moveTo>
                      <a:pt x="1452" y="585"/>
                    </a:moveTo>
                    <a:cubicBezTo>
                      <a:pt x="505" y="90"/>
                      <a:pt x="23" y="710"/>
                      <a:pt x="0" y="764"/>
                    </a:cubicBezTo>
                    <a:cubicBezTo>
                      <a:pt x="0" y="764"/>
                      <a:pt x="388" y="0"/>
                      <a:pt x="1452" y="502"/>
                    </a:cubicBez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>
                <a:off x="7110360" y="13390560"/>
                <a:ext cx="7101000" cy="3446640"/>
              </a:xfrm>
              <a:custGeom>
                <a:avLst/>
                <a:gdLst/>
                <a:ahLst/>
                <a:rect l="l" t="t" r="r" b="b"/>
                <a:pathLst>
                  <a:path w="1452" h="764">
                    <a:moveTo>
                      <a:pt x="1452" y="585"/>
                    </a:moveTo>
                    <a:cubicBezTo>
                      <a:pt x="505" y="90"/>
                      <a:pt x="23" y="710"/>
                      <a:pt x="0" y="764"/>
                    </a:cubicBezTo>
                    <a:cubicBezTo>
                      <a:pt x="0" y="764"/>
                      <a:pt x="388" y="0"/>
                      <a:pt x="1452" y="502"/>
                    </a:cubicBezTo>
                  </a:path>
                </a:pathLst>
              </a:custGeom>
              <a:solidFill>
                <a:srgbClr val="990000">
                  <a:alpha val="3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Freeform 28"/>
            <p:cNvSpPr/>
            <p:nvPr/>
          </p:nvSpPr>
          <p:spPr>
            <a:xfrm>
              <a:off x="6154560" y="13573440"/>
              <a:ext cx="8053200" cy="3598560"/>
            </a:xfrm>
            <a:custGeom>
              <a:avLst/>
              <a:gdLst/>
              <a:ahLst/>
              <a:rect l="l" t="t" r="r" b="b"/>
              <a:pathLst>
                <a:path w="1647" h="798">
                  <a:moveTo>
                    <a:pt x="1647" y="611"/>
                  </a:moveTo>
                  <a:cubicBezTo>
                    <a:pt x="635" y="94"/>
                    <a:pt x="24" y="741"/>
                    <a:pt x="0" y="798"/>
                  </a:cubicBezTo>
                  <a:cubicBezTo>
                    <a:pt x="0" y="798"/>
                    <a:pt x="511" y="0"/>
                    <a:pt x="1647" y="524"/>
                  </a:cubicBezTo>
                </a:path>
              </a:pathLst>
            </a:custGeom>
            <a:solidFill>
              <a:srgbClr val="ffd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Rectangle 14"/>
          <p:cNvSpPr/>
          <p:nvPr/>
        </p:nvSpPr>
        <p:spPr>
          <a:xfrm>
            <a:off x="7497720" y="16274880"/>
            <a:ext cx="6607080" cy="388800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80" rIns="46080" tIns="23040" bIns="23040" anchor="ctr">
            <a:noAutofit/>
          </a:bodyPr>
          <a:p>
            <a:pPr algn="ctr">
              <a:tabLst>
                <a:tab algn="l" pos="0"/>
                <a:tab algn="l" pos="2055960"/>
                <a:tab algn="l" pos="4111560"/>
                <a:tab algn="l" pos="6167520"/>
                <a:tab algn="l" pos="8223120"/>
                <a:tab algn="l" pos="10279080"/>
              </a:tabLst>
            </a:pPr>
            <a:r>
              <a:rPr b="0" lang="en-AU" sz="3600" spc="-1" strike="noStrike">
                <a:solidFill>
                  <a:srgbClr val="a6a6a6"/>
                </a:solidFill>
                <a:latin typeface="Calibri"/>
              </a:rPr>
              <a:t>your U3A contact details and web address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165640" y="627120"/>
            <a:ext cx="1536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6560" rIns="196560" tIns="98280" bIns="9828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OGO HE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853920" y="2870280"/>
            <a:ext cx="3632400" cy="50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2336760" y="7162920"/>
            <a:ext cx="4373640" cy="302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52400" y="16818120"/>
            <a:ext cx="4810320" cy="33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778120" y="12584160"/>
            <a:ext cx="3414600" cy="45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649440" y="9931320"/>
            <a:ext cx="4508280" cy="30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96680" y="1612440"/>
            <a:ext cx="1296036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ow to use the Template Design:  P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xes on the Left Hand Side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ject Box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click on the out line of the rectangle a tag will appear at the top of the rectangle and small blue circles at the co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on a PC clic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the top Ribb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nu will appear with one of the options (towards the middle)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ape Fill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is and one of the options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i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clic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icture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aken to a menu from which you may choose the folder and photo you wish to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photo and clic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se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hoto will be automatically resized to fit into the chosen rect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the process for the other rectang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20360" y="2247480"/>
            <a:ext cx="12960360" cy="1426068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90360" bIns="9036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ow to use the Template Design: Ap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empty rectangles ar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Object Box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you double click on the outline of the rectangle a tag will appear at the top of the rectangle and small circles at the corn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an Apple Machine simply go to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FIL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on the left hand side, near the icon of an object box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he dow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Arrow He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roll down to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FILL EFFECTS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Click, then click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Picture or Textu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FORMAT SHAP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dow will come u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w click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hoose Pi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Finder will come up – use this to locate the picture you wish to use, then click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nser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icture will appear, correctly resized in your rectangle. It will also show on th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FORMAT SHAPE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ndow. If it is what you want, click OK on th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FORMAT SHAPE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ndow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the same method with the other rectang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07:24:42Z</dcterms:created>
  <dc:creator>Jean de Hosson</dc:creator>
  <dc:description/>
  <dc:language>en-US</dc:language>
  <cp:lastModifiedBy>Jean de Hosson</cp:lastModifiedBy>
  <dcterms:modified xsi:type="dcterms:W3CDTF">2015-06-03T07:28:46Z</dcterms:modified>
  <cp:revision>20</cp:revision>
  <dc:subject/>
  <dc:title>PowerPoint Presentation</dc:title>
</cp:coreProperties>
</file>